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3061E92-E7F2-40B2-BF3D-9883C834171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293616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3CFFBDB-C041-442F-9FE2-F9F6A5909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E96E480-B9CC-42FA-BEB9-ADBD045179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9EABE12-7C05-4F5B-9BFC-771CBAA4BFB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3F90E51-6E26-4A3E-97D0-6853982267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98542A0-A9D3-496E-AECD-505E0082A7A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1A5BC87-D363-4C9A-B9B4-7A49E894AAF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52E229D-804E-49DA-955A-161AC330FC7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AFB60FA-91CC-489A-A8AB-C0E789A7076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0159CA4-A915-4FDE-B34E-99337DAEBE8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90521E6-3573-4412-84DF-46CA9E927BD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C2934FD-6A73-4A4A-B0FF-7C86E69680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66BF45D-AC91-4DA3-B99C-21AC43BCF5E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823F-EC24-4658-ABE2-9D96D316D79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A223-06EC-4B13-B909-35D23AC2E79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929A-2DE2-4587-B1E4-73045954E7B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649D-6C63-4FBD-95D2-FD700428CEA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Placeholder 5" descr=""/>
          <p:cNvPicPr/>
          <p:nvPr/>
        </p:nvPicPr>
        <p:blipFill>
          <a:blip r:embed="rId3"/>
          <a:srcRect l="9028" t="0" r="0" b="0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9777-F71C-4F05-936E-9D7FF2D752D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3185-E619-48F6-AE47-EE74EE29B32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284C-636E-41F2-8DA1-ADB7426F26C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DA29-D5ED-4FE8-9172-BDA83E2C0ED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5" descr=""/>
          <p:cNvPicPr/>
          <p:nvPr/>
        </p:nvPicPr>
        <p:blipFill>
          <a:blip r:embed="rId3"/>
          <a:srcRect l="5173" t="0" r="0" b="0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3D39-BBD8-42B9-98F6-0E8F163505D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8E93-5E7B-478B-B4AB-56AE7AC5AF2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8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3"/>
          <p:cNvSpPr/>
          <p:nvPr/>
        </p:nvSpPr>
        <p:spPr>
          <a:xfrm>
            <a:off x="4413240" y="641196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SP Fundamentals: Day 2 Age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952D-1C61-4995-91AC-00B78FED9BE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A3EB-6F6B-4271-A23E-93885D7056B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AF06-0F36-4D5E-A88B-15BD1FAD1F7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7F8B-9932-4C57-88E6-DEAD944342D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5643-E64F-45FA-B1D5-E4EE798768D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9751-CA1F-439A-84F7-4DBAEFC7EFD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I - Using PSP2.1 - </a:t>
            </a:r>
            <a:fld id="{8D305E91-8A47-4FB2-9B15-4A3BB45E44E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12400" y="173160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</a:t>
            </a:r>
            <a:r>
              <a:rPr b="1" lang="en-US" sz="3100" spc="-1" strike="noStrike" baseline="30000">
                <a:solidFill>
                  <a:srgbClr val="000000"/>
                </a:solidFill>
                <a:latin typeface="Arial Narrow"/>
              </a:rPr>
              <a:t>SM</a:t>
            </a: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I</a:t>
            </a:r>
            <a:br>
              <a:rPr sz="3100"/>
            </a:br>
            <a:br>
              <a:rPr sz="4800"/>
            </a:b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Tutorial: Using PSP2.1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Q A/F Rat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017360" y="1709640"/>
            <a:ext cx="74134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8572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Q A/F Ratio is the ratio of appraisal costs to failure co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4"/>
              <p:cNvSpPr txBox="1"/>
              <p:nvPr/>
            </p:nvSpPr>
            <p:spPr>
              <a:xfrm>
                <a:off x="2470320" y="5730840"/>
                <a:ext cx="38480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 COQ A/F 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% Appraisal CO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%Failure CO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0" name="Picture 7" descr="s10"/>
          <p:cNvPicPr/>
          <p:nvPr/>
        </p:nvPicPr>
        <p:blipFill>
          <a:blip r:embed="rId1"/>
          <a:stretch/>
        </p:blipFill>
        <p:spPr>
          <a:xfrm>
            <a:off x="1284120" y="2627280"/>
            <a:ext cx="6573960" cy="28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2.1 provides data that allows you to manage the cost of improving the quality of the programs you wri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sign templates will help you to record and document your design, making it easier to revie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torial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this tutorial, you w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new elements of PSP2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 how to use the PSP2.1 scripts and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prepared to use PSP2.1 for programs 6, 7, and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2.1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bjectives of PSP2.1 are to introdu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tional measures for managing process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templates that provide an orderly framework and format for recording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Process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2.1 adds the following process elem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2.1 design review scr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2.1 design review check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al specification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 specification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specification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specification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sign templates are discussed in the lectures on state machines and software desig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lan Summary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will walk through an example of a completed PSP2.1 project plan summ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the new items on this form are discus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Size Prediction Interv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size prediction intervals are automaticall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d using the method described in the tex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I – upper prediction int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PI – lower prediction int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values are calculated only if PROBE method A or 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9" descr="s6"/>
          <p:cNvPicPr/>
          <p:nvPr/>
        </p:nvPicPr>
        <p:blipFill>
          <a:blip r:embed="rId1"/>
          <a:stretch/>
        </p:blipFill>
        <p:spPr>
          <a:xfrm>
            <a:off x="2214720" y="4122720"/>
            <a:ext cx="4362120" cy="23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ment Time Prediction Interv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time prediction intervals are automaticall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d using the method described in the tex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I – upper prediction int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PI – lower prediction int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values are calculated only if PROBE method A or 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7" descr="s7"/>
          <p:cNvPicPr/>
          <p:nvPr/>
        </p:nvPicPr>
        <p:blipFill>
          <a:blip r:embed="rId1"/>
          <a:stretch/>
        </p:blipFill>
        <p:spPr>
          <a:xfrm>
            <a:off x="2390760" y="4154400"/>
            <a:ext cx="436248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:  Percent Appraisal COQ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017360" y="1709640"/>
            <a:ext cx="7413480" cy="10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8572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Appraisal Cost of Quality is the percentage of development time spent in design review and code revie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4"/>
              <p:cNvSpPr txBox="1"/>
              <p:nvPr/>
            </p:nvSpPr>
            <p:spPr>
              <a:xfrm>
                <a:off x="1214280" y="5753160"/>
                <a:ext cx="67280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 Appraisal CO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sign Review Tim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de Review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Development 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52" name="Picture 7" descr="s8"/>
          <p:cNvPicPr/>
          <p:nvPr/>
        </p:nvPicPr>
        <p:blipFill>
          <a:blip r:embed="rId1"/>
          <a:stretch/>
        </p:blipFill>
        <p:spPr>
          <a:xfrm>
            <a:off x="1278000" y="2808360"/>
            <a:ext cx="6588000" cy="28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:  Percent Failure COQ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017360" y="1709640"/>
            <a:ext cx="741348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8572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Failure Cost of Quality is the percentage of development time spent in compile and t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4"/>
              <p:cNvSpPr txBox="1"/>
              <p:nvPr/>
            </p:nvSpPr>
            <p:spPr>
              <a:xfrm>
                <a:off x="1952640" y="5664240"/>
                <a:ext cx="48909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 Failure CO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mpile Tim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est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Development 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56" name="Picture 7" descr="s9"/>
          <p:cNvPicPr/>
          <p:nvPr/>
        </p:nvPicPr>
        <p:blipFill>
          <a:blip r:embed="rId1"/>
          <a:stretch/>
        </p:blipFill>
        <p:spPr>
          <a:xfrm>
            <a:off x="1278000" y="2600280"/>
            <a:ext cx="6588000" cy="2801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5:29Z</dcterms:modified>
  <cp:revision>130</cp:revision>
  <dc:subject/>
  <dc:title>No Slide Title</dc:title>
</cp:coreProperties>
</file>